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CEE-BA64-42E6-9166-CFCEF57E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D3F-444A-4357-BF82-56B4CB3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8F7-D2E9-4501-83A9-62E4A1AE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AA6-35D9-49D3-B727-E5D839DB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55AB-F2B1-4279-8283-14896454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AE74-B488-44F4-9676-89334F9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D3A9-360F-4A22-A04A-0D2A38C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6443-6FED-4E3D-AF98-40E88338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B2C0-FD2E-4BB6-88E3-F4B64A6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F03-910D-44AD-A6A2-253A5E93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1DBF-FE60-4660-A7CE-ABBF7FA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167-A0C8-49C4-A569-99BF1CC7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5077-154E-4A70-905B-B7A4DC27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3EE6-83A9-4F32-B329-76F6C08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E05-BFBB-4DD8-A782-D7EC27F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C9C-796F-4F2B-BDBB-1EC5F894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347-CF0F-4FEF-B3CA-618FBC3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766-784D-44EA-8311-15AAC58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7C5-9EBE-4CB7-AC4B-5122F6D2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176-417F-4B65-9B74-88125A4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F37-7295-468D-BDE0-4464C55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980-ADA1-4E63-9788-DCB5A52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D40-8D25-458D-AE40-DD791F2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690-A59C-496B-904F-28987FB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D25E-83D3-48F2-B177-8133BC00D688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CCA-427F-4C82-96A4-F479A1F24CE3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Times New Roman"/>
              </a:rPr>
              <a:t>Ce evaluăm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noştinţe, atitudini, aptitudini, deprinde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ă ştiu, dacă ştiu să facă, dacă ştiu cum să facă sau dacă ştiu cum vor aplica în viaţa reală ceea ce şti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tingerea obiectivelor legate de un anumit conţin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formanţele celui evalu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ropuse de către profes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e care şi le-au propus cei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ogram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todele folos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rganizarea procesului de învăţ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rviciile pe care le oferă instituţia în care se desfăşoară proces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zultatele (produsul) sau procesul în sine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1128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ONALIZAREA SISTEMULUI DE EVAL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500" spc="-1" strike="noStrike">
                <a:solidFill>
                  <a:srgbClr val="330033"/>
                </a:solidFill>
                <a:latin typeface="Times New Roman"/>
              </a:rPr>
              <a:t>De ce evaluăm?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celor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instrumente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metodelor, mijloacelor şi strategii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realizarea de selecţi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orectarea performanţe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utocontrolul propriilor capacităţi de pred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identificarea deficienţelor sau disfuncţionalităţilor la nivelul organizării unei unităţi şcol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optimizarea conţinuturi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i foloseşte evaluarea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evaluaţ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valuatorului (profesor, instituţi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ărinţ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actorilor de decizie şcolar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care fac un anumit tip de selecţie (angajări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Pe cine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individ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în raport cu grupul din care fac pa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grup, o clasă sau un lot de indivizi grupaţi după un criteriu anume, de exemplu o grupă de vârst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eşan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ând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începutul unui proces (evaluarea iniţial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timpul procesului (evaluare continuă sau formativ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sfârşitul unui proces sau al unei etape (evaluare sumativă sau final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m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ce met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tehnici şi procede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instru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onstat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o activitate instructivă s‑a derulat ori a avut loc în condiţii optime, o cunoştinţă a fost asimilată, o deprindere a fost achiziţionat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informa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a societăţ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prin diferite mijloace, privind stadiul şi evoluţia pregătirii populaţiei şco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dia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cauzelor care au condus la o slabă pregătire şi la o eficienţă scăzută a acţiunilor educa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pro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nevoilor şi disponibilităţilor viitoare ale elevilor sau ale instituţiilor de învăţămâ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continuare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6002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selecţi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 sau de deciz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supra poziţiei sau integrării unui elev într‑o ierarhie, într‑o formă sau într‑un nivel al pregătirii s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ertificar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care se recunoaşte statutul dobândit de către candidat în urma susţinerii unui examen sau a unei evaluări cu caracter normati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edagogi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în perspectiva elevului (motivaţională, stimulativă, de orientare şcolară şi profesională, de întărire a rezultatelor, de formare a unor abilităţi, de conştientizare a posibilităţilor) şi în perspectiva profesorului (pentru a şti ce a făcut şi ce are de realizat în contin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 Cucoş, Pedagogie, Polirom, Iaşi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. Cristea, Dicţionar de termeni pedagogici, Editura Didactică şi Pedagogică, R.A. - Bucureşti,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42:53Z</dcterms:created>
  <dc:creator>Adi</dc:creator>
  <dc:description/>
  <dc:language>en-US</dc:language>
  <cp:lastModifiedBy>ARDELEAN NORIN</cp:lastModifiedBy>
  <dcterms:modified xsi:type="dcterms:W3CDTF">2010-12-15T03:57:16Z</dcterms:modified>
  <cp:revision>5</cp:revision>
  <dc:subject/>
  <dc:title>Ce evaluăm?</dc:title>
</cp:coreProperties>
</file>